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7BC74A-A48D-4999-B729-2EB6BC7C84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10C-D03A-429A-8F46-00D00758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0A4-D7D2-4113-A10E-08857984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0F8-7E9E-45C7-AA77-97E4CDC1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7C6-101D-47BB-B20D-06693C34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97AF-08DD-49C3-AE42-4FEC6DC2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4545-B77D-4C7E-8596-BD0B04CD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E11C-D286-4BE2-B0C0-D580AB07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B693-BFE7-4846-A741-23FEA728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208-C307-48BF-A18C-BC135052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C56E-55B6-4817-B072-DA1A47A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A26-6D8E-4FE7-A4E3-35A8B84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1CE-4B0E-4D57-95DA-0B52B7B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E9BF-8EB7-4861-9A5E-EFC5F4E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3728-1868-4C76-9301-CEA6CC0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CC6-529A-4472-81BD-5EDFC8A7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A099-3EFB-49FC-9D7E-FF56A6B8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C45A-F1CF-4F4F-9D84-3303ED94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D0F-1262-4737-8A50-2E1C9FE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8CF-CD5E-4952-AD61-D66A1D2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BA1-E8DC-4AC3-8EBE-3092662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483-8290-4E31-8516-65DFADA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4BC-6BCF-4A4B-9036-C250E69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F81-38E0-4532-A1B6-50E4454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53F-BC7B-42B6-99B7-D9A643A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C4F-9FDB-434D-B8B8-93DC2F996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FBF-301B-455E-A6EB-F2658457A57A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cking to fewer dimens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uarante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37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s a pretty good approximation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ve distances are (approximately) preserv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f al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matrices of rank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the best approximation 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A wr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following measure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40000"/>
              </a:lnSpc>
              <a:spcBef>
                <a:spcPts val="125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B, rank(B)=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||A-B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||A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||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k+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2625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obenius norm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||A||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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s the doc-matrix k x n, hence reduced to k di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Since we are interested in doc/q correlation, we consider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=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=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(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 =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R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Approx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ith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, thus get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Lucida Sans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Lucida Sans"/>
              </a:rPr>
              <a:t>k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(both are n x n matr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110000"/>
              </a:lnSpc>
              <a:spcBef>
                <a:spcPts val="25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us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 define how to project A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and Q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lnSpc>
                <a:spcPct val="50000"/>
              </a:lnSpc>
              <a:spcBef>
                <a:spcPts val="32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hav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ays the role of A, its columns are the projected docs, henc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enough to multiply Q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get the projected query, O(km)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90000"/>
              </a:lnSpc>
              <a:spcBef>
                <a:spcPts val="1925"/>
              </a:spcBef>
              <a:spcAft>
                <a:spcPts val="550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Lucida Sans"/>
              </a:rPr>
              <a:t>Cost of sim(q,d), for all d, is O(kn+km) instead of O(m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6012000" y="0"/>
            <a:ext cx="2952720" cy="1341360"/>
          </a:xfrm>
          <a:prstGeom prst="wedgeRoundRectCallout">
            <a:avLst>
              <a:gd name="adj1" fmla="val -16398"/>
              <a:gd name="adj2" fmla="val -483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119640" y="260280"/>
            <a:ext cx="3024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R,P are formed by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rthonormal eigenvecto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of the matrices D,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ich are the concepts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-th concept = c-th row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   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(which is k x m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enote it by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, whose size is </a:t>
            </a:r>
            <a:r>
              <a:rPr b="0" i="1" lang="en-US" sz="2500" spc="-1" strike="noStrike">
                <a:solidFill>
                  <a:srgbClr val="000000"/>
                </a:solidFill>
                <a:latin typeface="Lucida Sans"/>
              </a:rPr>
              <a:t>m = #term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[i] = strength of association between c-th concept and i-th term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document: d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j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d</a:t>
            </a:r>
            <a:r>
              <a:rPr b="0" lang="en-US" sz="2500" spc="-1" strike="noStrike" baseline="-25000">
                <a:solidFill>
                  <a:srgbClr val="cc0000"/>
                </a:solidFill>
                <a:latin typeface="Lucida Sans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12120" indent="-31212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jected query: q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ja-JP" sz="25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[c] =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strenght of concept </a:t>
            </a:r>
            <a:r>
              <a:rPr b="0" i="1" lang="en-US" sz="2500" spc="-1" strike="noStrike">
                <a:solidFill>
                  <a:srgbClr val="cc0000"/>
                </a:solidFill>
                <a:latin typeface="Lucida Sans"/>
              </a:rPr>
              <a:t>c </a:t>
            </a:r>
            <a:r>
              <a:rPr b="0" lang="en-US" sz="2500" spc="-1" strike="noStrike">
                <a:solidFill>
                  <a:srgbClr val="cc0000"/>
                </a:solidFill>
                <a:latin typeface="Lucida Sans"/>
              </a:rPr>
              <a:t>in q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0">
              <a:spcBef>
                <a:spcPts val="17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Projec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ounded Rectangle 3"/>
          <p:cNvSpPr/>
          <p:nvPr/>
        </p:nvSpPr>
        <p:spPr>
          <a:xfrm>
            <a:off x="5796000" y="630864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lides only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n interesting math resul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10720" y="5661000"/>
            <a:ext cx="647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f() is called JL-embedd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Lucida Sans"/>
              </a:rPr>
              <a:t>Setting v=0 we also get a bound on f(u)’s stretching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9640" y="1775160"/>
            <a:ext cx="799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mma (Johnson-Linderstrauss, ‘8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t P be a set of n distinct points in m-dimens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gt; 0, there exists a function f : P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ch that for every pair of points u,v in P it hold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-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 - 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 ||f(u) – f(v)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≤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ahoma"/>
              </a:rPr>
              <a:t>(1 + 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) ||u-v||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here 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k = O(</a:t>
            </a:r>
            <a:r>
              <a:rPr b="0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30000">
                <a:solidFill>
                  <a:srgbClr val="c00000"/>
                </a:solidFill>
                <a:latin typeface="Lucida Sans"/>
              </a:rPr>
              <a:t>-2</a:t>
            </a:r>
            <a:r>
              <a:rPr b="0" lang="it-IT" sz="2400" spc="-1" strike="noStrike">
                <a:solidFill>
                  <a:srgbClr val="c00000"/>
                </a:solidFill>
                <a:latin typeface="Lucida Sans"/>
              </a:rPr>
              <a:t> log 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704360" cy="4041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What about the </a:t>
            </a:r>
            <a:r>
              <a:rPr b="0" i="1" lang="it-IT" sz="3600" spc="-1" strike="noStrike">
                <a:solidFill>
                  <a:srgbClr val="000000"/>
                </a:solidFill>
                <a:latin typeface="Lucida Sans"/>
              </a:rPr>
              <a:t>cosine-distance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AutoShape 5"/>
          <p:cNvSpPr/>
          <p:nvPr/>
        </p:nvSpPr>
        <p:spPr>
          <a:xfrm rot="20432400">
            <a:off x="4788000" y="31417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08560" y="289548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(u)’s, f(v)’s stretch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AutoShape 5"/>
          <p:cNvSpPr/>
          <p:nvPr/>
        </p:nvSpPr>
        <p:spPr>
          <a:xfrm rot="20432400">
            <a:off x="4940280" y="4243320"/>
            <a:ext cx="1224000" cy="360360"/>
          </a:xfrm>
          <a:prstGeom prst="leftArrow">
            <a:avLst>
              <a:gd name="adj1" fmla="val 50000"/>
              <a:gd name="adj2" fmla="val 84915"/>
            </a:avLst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123600" y="399744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substituting formula abov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for  ||u-v||</a:t>
            </a:r>
            <a:r>
              <a:rPr b="0" lang="it-IT" sz="1600" spc="-1" strike="noStrike" baseline="30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it-IT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24000" y="4076640"/>
            <a:ext cx="842472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79280" y="2924280"/>
            <a:ext cx="8856720" cy="17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ow to compute a JL-embedding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3203640" y="5443560"/>
            <a:ext cx="2930040" cy="1461240"/>
            <a:chOff x="3203640" y="5443560"/>
            <a:chExt cx="2930040" cy="1461240"/>
          </a:xfrm>
        </p:grpSpPr>
        <p:sp>
          <p:nvSpPr>
            <p:cNvPr id="190" name="AutoShape 8"/>
            <p:cNvSpPr/>
            <p:nvPr/>
          </p:nvSpPr>
          <p:spPr>
            <a:xfrm>
              <a:off x="3203640" y="5516640"/>
              <a:ext cx="1150920" cy="1081080"/>
            </a:xfrm>
            <a:prstGeom prst="rightArrow">
              <a:avLst>
                <a:gd name="adj1" fmla="val 50000"/>
                <a:gd name="adj2" fmla="val 2661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4500720" y="5443560"/>
              <a:ext cx="16329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E[r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Var[r</a:t>
              </a:r>
              <a:r>
                <a:rPr b="0" lang="it-IT" sz="2400" spc="-1" strike="noStrike" baseline="-38000">
                  <a:solidFill>
                    <a:srgbClr val="000000"/>
                  </a:solidFill>
                  <a:latin typeface="Lucida Sans"/>
                </a:rPr>
                <a:t>i,j</a:t>
              </a: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] = 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2" name="Rectangle 3"/>
          <p:cNvSpPr/>
          <p:nvPr/>
        </p:nvSpPr>
        <p:spPr>
          <a:xfrm>
            <a:off x="684360" y="1717560"/>
            <a:ext cx="7926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we set the projection matrix P =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,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s a random m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k matrix, where its components are independent random variables with one of the following two distribu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3" name="CasellaDiTesto 2" descr=""/>
          <p:cNvPicPr/>
          <p:nvPr/>
        </p:nvPicPr>
        <p:blipFill>
          <a:blip r:embed="rId1"/>
          <a:stretch/>
        </p:blipFill>
        <p:spPr>
          <a:xfrm>
            <a:off x="1822320" y="3486240"/>
            <a:ext cx="5499360" cy="768240"/>
          </a:xfrm>
          <a:prstGeom prst="rect">
            <a:avLst/>
          </a:prstGeom>
          <a:ln w="0">
            <a:noFill/>
          </a:ln>
        </p:spPr>
      </p:pic>
      <p:pic>
        <p:nvPicPr>
          <p:cNvPr id="194" name="CasellaDiTesto 8" descr=""/>
          <p:cNvPicPr/>
          <p:nvPr/>
        </p:nvPicPr>
        <p:blipFill>
          <a:blip r:embed="rId2"/>
          <a:stretch/>
        </p:blipFill>
        <p:spPr>
          <a:xfrm>
            <a:off x="901800" y="4468680"/>
            <a:ext cx="68212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nally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39640" y="1791720"/>
            <a:ext cx="79916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Random projections hide large consta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1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log n, so k may be large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t is simple and fast to compu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71680" y="3710880"/>
            <a:ext cx="79912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05000"/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LSI is intuitive and may scale to any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timal under various metri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002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t costly to compute, do exist good libra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eding up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cosine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we could take our vectors an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ack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m into fewer dimension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(say 50,000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100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hile preserving distanc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w, O(nm) to compute cos(d,q) for all 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n, O(km+kn) where k &lt;&lt; n,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ethod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dom proj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iefl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SI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k-dim subspace by eliminating redundant ax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ll together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lated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xes – hopeful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 projection is data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oose a k-dim subspace that guarantees good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stretching propertie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with high probability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ween any pair of poi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5580000" y="3635280"/>
            <a:ext cx="334800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What about polysemy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tent Semant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5640" y="2757600"/>
            <a:ext cx="767700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790960" y="584028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urtesy of Susan Duma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8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tions from linear algebr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A, vector 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transpose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trix produc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genvalu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eigenvector v: Av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2700360" y="4581360"/>
            <a:ext cx="4247640" cy="1726920"/>
            <a:chOff x="2700360" y="4581360"/>
            <a:chExt cx="4247640" cy="1726920"/>
          </a:xfrm>
        </p:grpSpPr>
        <p:pic>
          <p:nvPicPr>
            <p:cNvPr id="104" name="Picture 18" descr="txp_fig"/>
            <p:cNvPicPr/>
            <p:nvPr/>
          </p:nvPicPr>
          <p:blipFill>
            <a:blip r:embed="rId1"/>
            <a:stretch/>
          </p:blipFill>
          <p:spPr>
            <a:xfrm>
              <a:off x="2824920" y="5382360"/>
              <a:ext cx="4000680" cy="8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3167640" y="4581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2700360" y="4581360"/>
              <a:ext cx="4247640" cy="172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601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view of LS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-process docs using a technique from linear algebra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Singular Value Decomposi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reate a new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mall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vector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ies handled (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f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 in this new spa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ngular-Value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trix of term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docs,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ran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276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term-ter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=A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doc-do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rrelation matrix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=A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 a square, symmetr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matrix of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eigenvector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decompos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T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for D,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ormed by orthonormal columns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(unit dot-product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 turns out that 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A = P</a:t>
            </a:r>
            <a:r>
              <a:rPr b="0" i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4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i="1" lang="en-US" sz="3400" spc="-1" strike="noStrike" baseline="30000">
                <a:solidFill>
                  <a:srgbClr val="000000"/>
                </a:solidFill>
                <a:latin typeface="Lucida Sans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agona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trix with the eigenvalues of T=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decreasing or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1547640" y="306864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66880" y="5091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58640" y="6257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203360" y="618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321520" y="59864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727320" y="582444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117520" y="504972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074120" y="5049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07240" y="51577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582600" y="5049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8"/>
          <p:cNvSpPr/>
          <p:nvPr/>
        </p:nvSpPr>
        <p:spPr>
          <a:xfrm>
            <a:off x="5219640" y="49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so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ll but th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iggest eigenvalues 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a40508"/>
                </a:solidFill>
                <a:latin typeface="Comic Sans MS"/>
              </a:rPr>
              <a:t>[choice of k is crucial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note by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is new ver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, having rank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ypically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is about 100, whil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i="1" lang="ja-JP" sz="1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s rank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) is &gt; 10,00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76360" y="1981080"/>
          <a:ext cx="6172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1080"/>
                    <a:ext cx="6172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3495600" y="4003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132080" y="5025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57800" y="4898880"/>
            <a:ext cx="52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651000" y="490680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mensionality red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94920" y="5097600"/>
            <a:ext cx="53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4" name="Group 38"/>
          <p:cNvGrpSpPr/>
          <p:nvPr/>
        </p:nvGrpSpPr>
        <p:grpSpPr>
          <a:xfrm>
            <a:off x="2124000" y="3429000"/>
            <a:ext cx="1425240" cy="1720800"/>
            <a:chOff x="2124000" y="3429000"/>
            <a:chExt cx="1425240" cy="1720800"/>
          </a:xfrm>
        </p:grpSpPr>
        <p:sp>
          <p:nvSpPr>
            <p:cNvPr id="135" name="Rectangle 14"/>
            <p:cNvSpPr/>
            <p:nvPr/>
          </p:nvSpPr>
          <p:spPr>
            <a:xfrm>
              <a:off x="2124000" y="3708360"/>
              <a:ext cx="287280" cy="144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5002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 rot="10800000">
              <a:off x="2195280" y="3573000"/>
              <a:ext cx="215640" cy="360360"/>
            </a:xfrm>
            <a:custGeom>
              <a:avLst/>
              <a:gdLst>
                <a:gd name="textAreaLeft" fmla="*/ 0 w 215640"/>
                <a:gd name="textAreaRight" fmla="*/ 185760 w 215640"/>
                <a:gd name="textAreaTop" fmla="*/ 30816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53" y="0"/>
                  </a:moveTo>
                  <a:lnTo>
                    <a:pt x="12706" y="7200"/>
                  </a:lnTo>
                  <a:lnTo>
                    <a:pt x="15792" y="7200"/>
                  </a:lnTo>
                  <a:lnTo>
                    <a:pt x="15792" y="18424"/>
                  </a:lnTo>
                  <a:lnTo>
                    <a:pt x="0" y="18424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153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514960" y="34290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a000"/>
                  </a:solidFill>
                  <a:latin typeface="Lucida Sans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" name="Group 37"/>
          <p:cNvGrpSpPr/>
          <p:nvPr/>
        </p:nvGrpSpPr>
        <p:grpSpPr>
          <a:xfrm>
            <a:off x="4643280" y="4508280"/>
            <a:ext cx="4313880" cy="1622520"/>
            <a:chOff x="4643280" y="4508280"/>
            <a:chExt cx="4313880" cy="1622520"/>
          </a:xfrm>
        </p:grpSpPr>
        <p:sp>
          <p:nvSpPr>
            <p:cNvPr id="139" name="Line 20"/>
            <p:cNvSpPr/>
            <p:nvPr/>
          </p:nvSpPr>
          <p:spPr>
            <a:xfrm flipH="1" flipV="1">
              <a:off x="4643280" y="4797000"/>
              <a:ext cx="1152720" cy="107964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V="1">
              <a:off x="5796000" y="4508280"/>
              <a:ext cx="936720" cy="1368360"/>
            </a:xfrm>
            <a:prstGeom prst="line">
              <a:avLst/>
            </a:prstGeom>
            <a:ln w="28440">
              <a:solidFill>
                <a:srgbClr val="00a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 Box 22"/>
            <p:cNvSpPr/>
            <p:nvPr/>
          </p:nvSpPr>
          <p:spPr>
            <a:xfrm>
              <a:off x="5803200" y="5732640"/>
              <a:ext cx="31539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a000"/>
                  </a:solidFill>
                  <a:latin typeface="Lucida Sans"/>
                </a:rPr>
                <a:t>useless due to 0-col/0-row of </a:t>
              </a:r>
              <a:r>
                <a:rPr b="0" lang="it-IT" sz="1600" spc="-1" strike="noStrike">
                  <a:solidFill>
                    <a:srgbClr val="00a000"/>
                  </a:solidFill>
                  <a:latin typeface="Symbol"/>
                  <a:ea typeface="Symbol"/>
                </a:rPr>
                <a:t></a:t>
              </a:r>
              <a:r>
                <a:rPr b="0" lang="it-IT" sz="1600" spc="-1" strike="noStrike" baseline="-25000">
                  <a:solidFill>
                    <a:srgbClr val="00a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4314240" y="5353200"/>
            <a:ext cx="64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r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973200" y="522936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r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5293800" y="4653000"/>
            <a:ext cx="264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6012000" y="3716280"/>
            <a:ext cx="1619280" cy="936720"/>
            <a:chOff x="6012000" y="3716280"/>
            <a:chExt cx="1619280" cy="936720"/>
          </a:xfrm>
        </p:grpSpPr>
        <p:sp>
          <p:nvSpPr>
            <p:cNvPr id="146" name="Rectangle 19"/>
            <p:cNvSpPr/>
            <p:nvPr/>
          </p:nvSpPr>
          <p:spPr>
            <a:xfrm>
              <a:off x="6012000" y="4365720"/>
              <a:ext cx="1619280" cy="28728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6018840" y="3860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6300720" y="371628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9" name="Group 35"/>
          <p:cNvGrpSpPr/>
          <p:nvPr/>
        </p:nvGrpSpPr>
        <p:grpSpPr>
          <a:xfrm>
            <a:off x="3995640" y="3645000"/>
            <a:ext cx="792360" cy="1487520"/>
            <a:chOff x="3995640" y="3645000"/>
            <a:chExt cx="792360" cy="1487520"/>
          </a:xfrm>
        </p:grpSpPr>
        <p:sp>
          <p:nvSpPr>
            <p:cNvPr id="150" name="Rectangle 18"/>
            <p:cNvSpPr/>
            <p:nvPr/>
          </p:nvSpPr>
          <p:spPr>
            <a:xfrm>
              <a:off x="4500720" y="3691080"/>
              <a:ext cx="287280" cy="1441440"/>
            </a:xfrm>
            <a:prstGeom prst="rect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4074120" y="3645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995640" y="39085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3" name="Line 34"/>
          <p:cNvSpPr/>
          <p:nvPr/>
        </p:nvSpPr>
        <p:spPr>
          <a:xfrm>
            <a:off x="500364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9"/>
          <p:cNvGrpSpPr/>
          <p:nvPr/>
        </p:nvGrpSpPr>
        <p:grpSpPr>
          <a:xfrm>
            <a:off x="5003640" y="3716280"/>
            <a:ext cx="792360" cy="936720"/>
            <a:chOff x="5003640" y="3716280"/>
            <a:chExt cx="792360" cy="936720"/>
          </a:xfrm>
        </p:grpSpPr>
        <p:sp>
          <p:nvSpPr>
            <p:cNvPr id="155" name="Rectangle 23"/>
            <p:cNvSpPr/>
            <p:nvPr/>
          </p:nvSpPr>
          <p:spPr>
            <a:xfrm>
              <a:off x="5508720" y="3716280"/>
              <a:ext cx="287280" cy="93672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003640" y="4365720"/>
              <a:ext cx="792360" cy="287280"/>
            </a:xfrm>
            <a:prstGeom prst="rect">
              <a:avLst/>
            </a:pr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>
              <a:off x="5003640" y="3716280"/>
              <a:ext cx="505080" cy="64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5229720" y="3789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077800" y="3789360"/>
            <a:ext cx="740880" cy="902160"/>
            <a:chOff x="5077800" y="3789360"/>
            <a:chExt cx="740880" cy="902160"/>
          </a:xfrm>
        </p:grpSpPr>
        <p:sp>
          <p:nvSpPr>
            <p:cNvPr id="160" name="Text Box 11"/>
            <p:cNvSpPr/>
            <p:nvPr/>
          </p:nvSpPr>
          <p:spPr>
            <a:xfrm>
              <a:off x="5509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5077800" y="42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5509800" y="378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3" name="Text Box 46"/>
          <p:cNvSpPr/>
          <p:nvPr/>
        </p:nvSpPr>
        <p:spPr>
          <a:xfrm>
            <a:off x="2196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4318560" y="536112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x k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6977160" y="5229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 x n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23T09:51:44Z</dcterms:modified>
  <cp:revision>1210</cp:revision>
  <dc:subject/>
  <dc:title>Web Algorithmics</dc:title>
</cp:coreProperties>
</file>